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19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2.jpeg" ContentType="image/jpeg"/>
  <Override PartName="/ppt/media/image32.png" ContentType="image/png"/>
  <Override PartName="/ppt/media/image7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wmf" ContentType="image/x-wmf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C5D-9E32-4916-B010-0662B55F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DAFB-56B4-4A0F-B18F-F21583CC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C28-9418-498E-987A-435C6C91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88A-5719-445A-9AF6-F42AECF7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040-AF11-41B2-A507-80E8074B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BF6-581D-42B9-9137-F4A38ECC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BF4-81A5-4229-8A69-FDCF1DC7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CB9-0ED5-4E5D-8B93-4059573A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0DD8-4849-47D5-B562-031709F8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971-098E-41F4-BD56-1070BBFE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DE79-A389-46F4-B785-DE592D00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D9F9-3BE5-4371-A745-86A3FF31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9B87-24D2-4B58-8D8F-5C1EBF4CE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DD00472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ve Americans were the people who lived in America before peopl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untries came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8" descr="family"/>
          <p:cNvPicPr/>
          <p:nvPr/>
        </p:nvPicPr>
        <p:blipFill>
          <a:blip r:embed="rId1"/>
          <a:stretch/>
        </p:blipFill>
        <p:spPr>
          <a:xfrm>
            <a:off x="3352680" y="3048120"/>
            <a:ext cx="2614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914400"/>
            <a:ext cx="693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62120" y="6094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ny Native American culture groups built their homes in villages or citi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91440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se are the remains of an anc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asazi cliff vill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" descr="page10"/>
          <p:cNvPicPr/>
          <p:nvPr/>
        </p:nvPicPr>
        <p:blipFill>
          <a:blip r:embed="rId1"/>
          <a:stretch/>
        </p:blipFill>
        <p:spPr>
          <a:xfrm>
            <a:off x="1828800" y="1523880"/>
            <a:ext cx="55245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914400" y="914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 culture groups, like the Plains Indians, were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omadic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43000" y="50292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could not live in one place.  They had to move around to follow the buffa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page11"/>
          <p:cNvPicPr/>
          <p:nvPr/>
        </p:nvPicPr>
        <p:blipFill>
          <a:blip r:embed="rId1"/>
          <a:stretch/>
        </p:blipFill>
        <p:spPr>
          <a:xfrm>
            <a:off x="2133720" y="1828800"/>
            <a:ext cx="48006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990720" y="68580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physical surrounding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of each region also affected how each cult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oup got its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90720" y="4038480"/>
            <a:ext cx="716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Eastern Woodlands were very lucky.  That region had forests, lakes and rivers, a nearby ocean, and good climate.  These Native Americans could farm, hunt, and fish for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8" descr="page12"/>
          <p:cNvPicPr/>
          <p:nvPr/>
        </p:nvPicPr>
        <p:blipFill>
          <a:blip r:embed="rId1"/>
          <a:stretch/>
        </p:blipFill>
        <p:spPr>
          <a:xfrm>
            <a:off x="1143000" y="1981080"/>
            <a:ext cx="2046240" cy="187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age13"/>
          <p:cNvPicPr/>
          <p:nvPr/>
        </p:nvPicPr>
        <p:blipFill>
          <a:blip r:embed="rId2"/>
          <a:stretch/>
        </p:blipFill>
        <p:spPr>
          <a:xfrm>
            <a:off x="3824280" y="2133720"/>
            <a:ext cx="1863720" cy="169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page12c"/>
          <p:cNvPicPr/>
          <p:nvPr/>
        </p:nvPicPr>
        <p:blipFill>
          <a:blip r:embed="rId3"/>
          <a:stretch/>
        </p:blipFill>
        <p:spPr>
          <a:xfrm>
            <a:off x="6324480" y="2286000"/>
            <a:ext cx="16923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43000" y="685800"/>
            <a:ext cx="672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no forests in the Southwest region.  The land was rocky and uneve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219320" y="4419720"/>
            <a:ext cx="670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mesas, or large rocks with flat tops.  The Indians who lived in this region were farmers.  They planted their crops on the tops of m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5" descr="page13"/>
          <p:cNvPicPr/>
          <p:nvPr/>
        </p:nvPicPr>
        <p:blipFill>
          <a:blip r:embed="rId1"/>
          <a:stretch/>
        </p:blipFill>
        <p:spPr>
          <a:xfrm>
            <a:off x="1981080" y="1676520"/>
            <a:ext cx="5246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62120" y="51055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California Inter-mountain region were known as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gatherer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6" descr="page14"/>
          <p:cNvPicPr/>
          <p:nvPr/>
        </p:nvPicPr>
        <p:blipFill>
          <a:blip r:embed="rId1"/>
          <a:stretch/>
        </p:blipFill>
        <p:spPr>
          <a:xfrm>
            <a:off x="2895480" y="762120"/>
            <a:ext cx="327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143000" y="2514600"/>
            <a:ext cx="6705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few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n this region.  These Native Americans gathered acorns, seeds, and fruits.  They also dug up plant roots to eat for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7" descr="page15a"/>
          <p:cNvPicPr/>
          <p:nvPr/>
        </p:nvPicPr>
        <p:blipFill>
          <a:blip r:embed="rId1"/>
          <a:stretch/>
        </p:blipFill>
        <p:spPr>
          <a:xfrm>
            <a:off x="1066680" y="838080"/>
            <a:ext cx="117972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page15b"/>
          <p:cNvPicPr/>
          <p:nvPr/>
        </p:nvPicPr>
        <p:blipFill>
          <a:blip r:embed="rId2"/>
          <a:stretch/>
        </p:blipFill>
        <p:spPr>
          <a:xfrm>
            <a:off x="6553080" y="838080"/>
            <a:ext cx="1443240" cy="1463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page15c"/>
          <p:cNvPicPr/>
          <p:nvPr/>
        </p:nvPicPr>
        <p:blipFill>
          <a:blip r:embed="rId3"/>
          <a:stretch/>
        </p:blipFill>
        <p:spPr>
          <a:xfrm>
            <a:off x="990720" y="4343400"/>
            <a:ext cx="1749240" cy="1725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page15d"/>
          <p:cNvPicPr/>
          <p:nvPr/>
        </p:nvPicPr>
        <p:blipFill>
          <a:blip r:embed="rId4"/>
          <a:stretch/>
        </p:blipFill>
        <p:spPr>
          <a:xfrm>
            <a:off x="6477120" y="4267080"/>
            <a:ext cx="151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066680" y="83808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dians from the Northwest Coast hunted sea animals in the Pacific Ocea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990720" y="472428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salmon in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ivers for them to ea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also hunted animals in nearby for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page16"/>
          <p:cNvPicPr/>
          <p:nvPr/>
        </p:nvPicPr>
        <p:blipFill>
          <a:blip r:embed="rId1"/>
          <a:stretch/>
        </p:blipFill>
        <p:spPr>
          <a:xfrm>
            <a:off x="1523880" y="1828800"/>
            <a:ext cx="60008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685800" y="419112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uffalo were a natural resource in the Plains region.  The meat was used for food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skins were used for shelters and clothing.  The bones were used for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page17"/>
          <p:cNvPicPr/>
          <p:nvPr/>
        </p:nvPicPr>
        <p:blipFill>
          <a:blip r:embed="rId1"/>
          <a:stretch/>
        </p:blipFill>
        <p:spPr>
          <a:xfrm>
            <a:off x="1946160" y="660240"/>
            <a:ext cx="52167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066680" y="83808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hysical surroundings of the regions affected each culture group’s way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ife in other ways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990720" y="4800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as much clay in the Southwes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that lived in this region used the clay to make beautiful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page18"/>
          <p:cNvPicPr/>
          <p:nvPr/>
        </p:nvPicPr>
        <p:blipFill>
          <a:blip r:embed="rId1"/>
          <a:stretch/>
        </p:blipFill>
        <p:spPr>
          <a:xfrm>
            <a:off x="2886120" y="2079720"/>
            <a:ext cx="33717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62120" y="7621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Northwest Coast region had many forests.  The Native Americans in th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gion used wood from the fores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carve tall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totem pol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219320" y="5029200"/>
            <a:ext cx="6629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carvings on each totem pole told about a family’s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" descr="page19"/>
          <p:cNvPicPr/>
          <p:nvPr/>
        </p:nvPicPr>
        <p:blipFill>
          <a:blip r:embed="rId1"/>
          <a:stretch/>
        </p:blipFill>
        <p:spPr>
          <a:xfrm>
            <a:off x="3352680" y="2514600"/>
            <a:ext cx="24004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066680" y="9144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respected nat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0720" y="5029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took care of the earth and on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sed what they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5"/>
          <p:cNvGraphicFramePr/>
          <p:nvPr/>
        </p:nvGraphicFramePr>
        <p:xfrm>
          <a:off x="2666880" y="1600200"/>
          <a:ext cx="378324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37832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990720" y="6858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buffalo in the Plains region.  Native Americans who liv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this region were hunt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191120"/>
            <a:ext cx="701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lains Indians had special ceremonies before big hunts.  They danced to the music of drums.  They thought this would bring them good luck on the h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7" descr="page20"/>
          <p:cNvPicPr/>
          <p:nvPr/>
        </p:nvPicPr>
        <p:blipFill>
          <a:blip r:embed="rId1"/>
          <a:stretch/>
        </p:blipFill>
        <p:spPr>
          <a:xfrm>
            <a:off x="1752480" y="1981080"/>
            <a:ext cx="2068560" cy="2297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page20b"/>
          <p:cNvPicPr/>
          <p:nvPr/>
        </p:nvPicPr>
        <p:blipFill>
          <a:blip r:embed="rId2"/>
          <a:stretch/>
        </p:blipFill>
        <p:spPr>
          <a:xfrm>
            <a:off x="5638680" y="1981080"/>
            <a:ext cx="19670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66680" y="99072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472428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80880" y="6858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California Inter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untain region were expert basket weav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14400" y="5257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made beautiful baske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ut of grasses and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8" descr="page21"/>
          <p:cNvPicPr/>
          <p:nvPr/>
        </p:nvPicPr>
        <p:blipFill>
          <a:blip r:embed="rId1"/>
          <a:stretch/>
        </p:blipFill>
        <p:spPr>
          <a:xfrm>
            <a:off x="2362320" y="1662120"/>
            <a:ext cx="4724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990720" y="685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hysical surroundings affected how the Indians traveled, too.  All Indians walk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819520" y="236232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lains and Southwest Indians got horses from Spanish explor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33520" y="411480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dians in the Eastern Woodlands, Northwest Coast, and California Intermountain regions used can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page22"/>
          <p:cNvPicPr/>
          <p:nvPr/>
        </p:nvPicPr>
        <p:blipFill>
          <a:blip r:embed="rId1"/>
          <a:stretch/>
        </p:blipFill>
        <p:spPr>
          <a:xfrm>
            <a:off x="762120" y="1676520"/>
            <a:ext cx="2217600" cy="198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page23"/>
          <p:cNvPicPr/>
          <p:nvPr/>
        </p:nvPicPr>
        <p:blipFill>
          <a:blip r:embed="rId2"/>
          <a:stretch/>
        </p:blipFill>
        <p:spPr>
          <a:xfrm>
            <a:off x="6095880" y="3809880"/>
            <a:ext cx="23320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8"/>
          <p:cNvSpPr/>
          <p:nvPr/>
        </p:nvSpPr>
        <p:spPr>
          <a:xfrm>
            <a:off x="762120" y="4724280"/>
            <a:ext cx="76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 culture groups had different ways of life due to their different physical surroundings and natural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752480" y="68580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et’s review.  We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76212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were the first Americ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762120" y="2057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respected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62120" y="25909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used natural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762120" y="3124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lived in different 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762120" y="3657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had different h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762120" y="4191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got food in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2" descr="page23a"/>
          <p:cNvPicPr/>
          <p:nvPr/>
        </p:nvPicPr>
        <p:blipFill>
          <a:blip r:embed="rId1"/>
          <a:stretch/>
        </p:blipFill>
        <p:spPr>
          <a:xfrm>
            <a:off x="1676520" y="533520"/>
            <a:ext cx="9936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066680" y="99072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hoto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90720" y="1905120"/>
            <a:ext cx="7162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ge 1 - Spotted Tail’s fami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estern History/Genealogy Department, Denver Public Libr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066680" y="297180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ge 14 – Fruit gather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rthwestern University Library,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dward S. Curtis's 'The North American Indian': the Photographic Imag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2001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ttp://memory.loc.gov/ammem/award98/ienhtml/curthome.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990720" y="9144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used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meet their need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90720" y="48769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990720" y="4495680"/>
            <a:ext cx="7086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re things in nature that peopl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52388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320040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4952880" y="3733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781680" y="3733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uffa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3" descr="page3a"/>
          <p:cNvPicPr/>
          <p:nvPr/>
        </p:nvPicPr>
        <p:blipFill>
          <a:blip r:embed="rId1"/>
          <a:stretch/>
        </p:blipFill>
        <p:spPr>
          <a:xfrm>
            <a:off x="1143000" y="2503440"/>
            <a:ext cx="1447920" cy="846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page3b"/>
          <p:cNvPicPr/>
          <p:nvPr/>
        </p:nvPicPr>
        <p:blipFill>
          <a:blip r:embed="rId2"/>
          <a:stretch/>
        </p:blipFill>
        <p:spPr>
          <a:xfrm>
            <a:off x="3052800" y="2503440"/>
            <a:ext cx="1246320" cy="949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page3c"/>
          <p:cNvPicPr/>
          <p:nvPr/>
        </p:nvPicPr>
        <p:blipFill>
          <a:blip r:embed="rId3"/>
          <a:stretch/>
        </p:blipFill>
        <p:spPr>
          <a:xfrm>
            <a:off x="4761000" y="2503440"/>
            <a:ext cx="1520640" cy="100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page3d"/>
          <p:cNvPicPr/>
          <p:nvPr/>
        </p:nvPicPr>
        <p:blipFill>
          <a:blip r:embed="rId4"/>
          <a:stretch/>
        </p:blipFill>
        <p:spPr>
          <a:xfrm>
            <a:off x="6743880" y="2503440"/>
            <a:ext cx="125712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D00472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990720" y="10666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ative Americans lived in </a:t>
            </a:r>
            <a:br>
              <a:rPr sz="3200"/>
            </a:b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14400" y="243828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people in a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have the same way of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838080" y="4114800"/>
            <a:ext cx="754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s a group of people who live in the same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reg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143000" y="5105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ative Americans lived in six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ifferent reg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page5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5"/>
          <p:cNvSpPr/>
          <p:nvPr/>
        </p:nvSpPr>
        <p:spPr>
          <a:xfrm>
            <a:off x="685800" y="533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ach region had different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physical surrounding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914400" y="43434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s were mostly des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4495680" y="1600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me regions had for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8" descr="page6a"/>
          <p:cNvPicPr/>
          <p:nvPr/>
        </p:nvPicPr>
        <p:blipFill>
          <a:blip r:embed="rId1"/>
          <a:stretch/>
        </p:blipFill>
        <p:spPr>
          <a:xfrm>
            <a:off x="914400" y="1066680"/>
            <a:ext cx="3657600" cy="249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page6b"/>
          <p:cNvPicPr/>
          <p:nvPr/>
        </p:nvPicPr>
        <p:blipFill>
          <a:blip r:embed="rId2"/>
          <a:stretch/>
        </p:blipFill>
        <p:spPr>
          <a:xfrm>
            <a:off x="4419720" y="3657600"/>
            <a:ext cx="38480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219320" y="5257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ill others had oceans nearby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page7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457200" y="990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ch region had different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838080" y="472428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ch culture group used the natural resources in its region to meet its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6" descr="page8"/>
          <p:cNvPicPr/>
          <p:nvPr/>
        </p:nvPicPr>
        <p:blipFill>
          <a:blip r:embed="rId1"/>
          <a:stretch/>
        </p:blipFill>
        <p:spPr>
          <a:xfrm>
            <a:off x="1905120" y="1523880"/>
            <a:ext cx="5086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914400" y="32767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ose who lived near deserts used clay or stones to build their homes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1219320" y="609480"/>
            <a:ext cx="663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r this reason, Native American cult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oups had different homes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8080" y="419112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ose who lived on the Plains used buffalo skins to make their hom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85800" y="510552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ill others lived near forests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built their homes of w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page9a"/>
          <p:cNvPicPr/>
          <p:nvPr/>
        </p:nvPicPr>
        <p:blipFill>
          <a:blip r:embed="rId1"/>
          <a:stretch/>
        </p:blipFill>
        <p:spPr>
          <a:xfrm>
            <a:off x="1066680" y="1523880"/>
            <a:ext cx="2514600" cy="1717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page9b"/>
          <p:cNvPicPr/>
          <p:nvPr/>
        </p:nvPicPr>
        <p:blipFill>
          <a:blip r:embed="rId2"/>
          <a:stretch/>
        </p:blipFill>
        <p:spPr>
          <a:xfrm>
            <a:off x="3886200" y="1676520"/>
            <a:ext cx="1362240" cy="144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page9c"/>
          <p:cNvPicPr/>
          <p:nvPr/>
        </p:nvPicPr>
        <p:blipFill>
          <a:blip r:embed="rId3"/>
          <a:stretch/>
        </p:blipFill>
        <p:spPr>
          <a:xfrm>
            <a:off x="5410080" y="2057400"/>
            <a:ext cx="2895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4:54:58Z</dcterms:created>
  <dc:creator>LAyers</dc:creator>
  <dc:description/>
  <dc:language>en-US</dc:language>
  <cp:lastModifiedBy>CCS</cp:lastModifiedBy>
  <dcterms:modified xsi:type="dcterms:W3CDTF">2012-08-25T15:56:06Z</dcterms:modified>
  <cp:revision>115</cp:revision>
  <dc:subject/>
  <dc:title>Native Americans</dc:title>
</cp:coreProperties>
</file>